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0063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8243-FA2A-4152-BD54-77F383467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D073-9E45-402A-93C3-E3DA60BB9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BFEC-BF85-4970-975C-1D87B52EE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878D-43B5-419C-8935-59FF3CEA0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92BA8-7732-43BB-8042-7905B490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E5E8A-A585-4295-A2A5-3A2DC7F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C825B-9DE2-4094-A27D-0B51DBC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B8241-C12A-43AB-B980-5630183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35B7F-F57F-4AA4-8BB4-21DC2678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665B-D80D-4605-A371-2EBCE82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4D955-C2E5-490B-96D6-F0CCAD2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EB42-EDD0-4474-9006-BD5915ECF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2BEC2-9F3D-4745-B3D1-39B8555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4D25D-9A18-4C09-9300-C3B3119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1F4B1-7D3B-400B-90C2-533FD8B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42CD-3FA2-4D35-BA76-CB659703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8A043-9F32-4C72-B432-E07CB93E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3937-1FDE-48F6-BDAD-D255E2566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C023-0CA1-473E-B0C2-259F8439B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2F84-AD61-4919-8B9C-435975B88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5A0E-3253-4983-8693-1A08B88CF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CD7D-425B-4FF3-B438-4C63A32E3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3F4B-7EAC-4268-BC4B-87D6A03D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19AF-C6C5-4D45-B0FE-626025040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D338-A396-4CC3-BD93-68D31DC5B33C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90C-C3AA-4B42-BDBD-82FD17553F21}" type="datetime">
              <a:rPr b="0" lang="hu-HU" sz="1200" spc="-1" strike="noStrike">
                <a:solidFill>
                  <a:srgbClr val="ffffff"/>
                </a:solidFill>
                <a:latin typeface="Arial"/>
              </a:rPr>
              <a:t>26.07.30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938-5BFC-4425-959D-2134E46275A6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06064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GPS-re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alapozott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üzemvitel-irányítás</a:t>
            </a:r>
            <a:r>
              <a:rPr b="1" lang="hu-H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800" spc="-1" strike="noStrike">
                <a:solidFill>
                  <a:srgbClr val="ff9900"/>
                </a:solidFill>
                <a:latin typeface="Times New Roman"/>
              </a:rPr>
              <a:t>egy közúti személyszállító vállalatná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08000" y="3860280"/>
            <a:ext cx="463860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Készítette: Matók Vi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06064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ff9900"/>
                </a:solidFill>
                <a:latin typeface="Times New Roman"/>
              </a:rPr>
              <a:t>Köszönöm a figyelmüket!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témaválasztás okai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8318520" y="5589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720" y="1366560"/>
            <a:ext cx="891540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nformatika és a közlekedés összefonó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anapság oly divatos GPS alkalmazhatóságának bemuta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torizáció mellékhatásainak visszaszorításának törekv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émaválasztást erősen behatárolta a lakóhelyem iránti elkötelezettség, Szolnok közlekedésének jobbátétele iránti vágy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3787F6-5543-44C3-993C-E748D95FC8CB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784836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dolgozat felépítés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38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űholdas helymeghatározó rendszer adta általános lehetőségek a közlekedésb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orgalomirányító rendszerek fejlődése, típusa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FER bemutatása, előzmény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avaslatok a továbbfejlesztésre, összehasonlítások alapjá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8520" y="5589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991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netrendszerűség ellenőrzése a megállóhelye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Útvonal és menetidő ter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tastájékozta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inamikus forgalomirány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000" y="3212640"/>
            <a:ext cx="867564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Dinamikus Forgalomirányítási és Ellenőrzési Rendszer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8389800" y="5734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DIF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0017 -0.07569 L -0.08073 -0.32778 E">
                                      <p:cBhvr>
                                        <p:cTn id="1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avult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80-as, 90-es évek technológiá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rugalmasak az útvonalak tekinteté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építésük dr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hezen vagy egyáltalán nem fejleszthetőek a műholdas rendszerekhez kép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834920" y="2924280"/>
            <a:ext cx="756108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Miért jobbak a GPS alapú rendszerek mint az ellenőrző pontosak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722 -0.02084 L -0.18489 -0.23079 E">
                                      <p:cBhvr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Pécsi Pannon Volán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6448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astájékoztatá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belső kijelző, W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RH rádiós adat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924280"/>
            <a:ext cx="662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Debreceni DKV Zrt.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lósidejű utastájékoztatá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villamos megállók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Zöldút k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3213000"/>
            <a:ext cx="8675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Magyarországi személyszállítási vállalatoknál működő GPS alapú rendszer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Szolnoki Jászkun Volán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644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netrendter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kete rezs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924280"/>
            <a:ext cx="662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Budapesti BKV Zrt.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378936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frissebb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teszt alatt á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D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6 db járm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86 vona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6626160" cy="6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Békéscsabai Körös Zrt.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484280"/>
            <a:ext cx="8664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2000"/>
          </a:bodyPr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akukkzojás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 helyközi jár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zemanyag figy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3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gyérvényesí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1900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8893080" cy="6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A DIFER továbbfejlesztésének lehetőségei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33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zemanyag szint m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árműterhelés mé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astájékoztatás fejlesz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terjesztés a helyközi közlekedés irányításá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18520" y="5516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893 -0.07523 L -0.17917 -0.28518 E">
                                      <p:cBhvr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1:58:46Z</dcterms:created>
  <dc:creator>Menkó Mihály</dc:creator>
  <dc:description/>
  <dc:language>en-US</dc:language>
  <cp:lastModifiedBy>Tyurutty</cp:lastModifiedBy>
  <cp:lastPrinted>2004-06-24T13:06:41Z</cp:lastPrinted>
  <dcterms:modified xsi:type="dcterms:W3CDTF">2007-06-19T19:10:16Z</dcterms:modified>
  <cp:revision>59</cp:revision>
  <dc:subject/>
  <dc:title>Dinamikus Forgalomirányítási és Ellenőrző Rendszer (DIFER) Szolnok város helyi tömegközlekedésében</dc:title>
</cp:coreProperties>
</file>